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5EF-B34D-4B06-A35D-B3A542D6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8F4-FFEC-48EE-8984-2BED257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FA3-669C-4C07-B81F-89EFBC7F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365-FAD4-465E-9E3B-12AA4676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1D1-6077-42A0-BF6B-F1BBEAF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3D3-9F85-4821-BC04-6B01DD3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267-DBFE-4627-BB77-BA6AAE17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B6E-198E-407B-AD4E-99142420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80B-5CD5-4A20-A144-6E2F1495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C38-9428-4061-96D4-6E1C191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EF0-11E6-48AC-B54A-021AF48E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59F-6140-4B9D-942F-C2B5271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974-A8C7-4FC6-BD0B-A72F7DB3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ompounds related to 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muscle and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ggression and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s – illegal unless pr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co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es sleep depresses body functions, relieve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ople feel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addictive (phys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oin – illegal – natural (opi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phine, Oxycodone, Oxycontin – legal (prescrib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done – legal – manmade (to replace hero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tance that slows down or depresses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 what’s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”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nscious, stop brea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– legal for 21+,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B, Roofies –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um, barbituates – pr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s (huffing) – legal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3:58:29Z</dcterms:created>
  <dc:creator>Administrator</dc:creator>
  <dc:description/>
  <dc:language>en-US</dc:language>
  <cp:lastModifiedBy>Administrator</cp:lastModifiedBy>
  <dcterms:modified xsi:type="dcterms:W3CDTF">2009-05-14T20:53:57Z</dcterms:modified>
  <cp:revision>4</cp:revision>
  <dc:subject/>
  <dc:title>Narcotics</dc:title>
</cp:coreProperties>
</file>